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CA3-5CAD-44B2-8F90-EE95404C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914-8EB0-4D6A-BEEC-4C9BF6D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015-0E82-499A-B83C-09401D16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BA4-7E68-469E-A71B-DA1CAC84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52A-8E23-43D5-B303-2E4D9490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959-6A22-49A6-9390-C902A6E1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E87-E534-4676-9382-FB80BCE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98F-2744-4F71-A278-16686EE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BCA-6A63-4755-A6B6-0C25E25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91C-330F-47D7-9AC9-4164CF1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2CD-DD03-48E6-8634-443CD41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4D9-2BBF-4C59-A6D6-258F363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A48-EE74-4872-BE2E-7AA2563F0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SW343noWDw" TargetMode="External"/><Relationship Id="rId2" Type="http://schemas.openxmlformats.org/officeDocument/2006/relationships/hyperlink" Target="http://www.youtube.com/watch?v=tKbT_06zU6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uerra de las Malvin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años despu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857320" cy="477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400640" cy="24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3076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ia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fSW343noWD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netari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tKbT_06zU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14880" cy="220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38560" cy="25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416232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2286000" cy="271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80880" y="51814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70440" y="2971800"/>
            <a:ext cx="337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1:37:57Z</dcterms:created>
  <dc:creator> </dc:creator>
  <dc:description/>
  <dc:language>en-US</dc:language>
  <cp:lastModifiedBy> </cp:lastModifiedBy>
  <dcterms:modified xsi:type="dcterms:W3CDTF">2012-04-03T11:38:08Z</dcterms:modified>
  <cp:revision>1</cp:revision>
  <dc:subject/>
  <dc:title>La Guerra de las Malvinas 30 años después</dc:title>
</cp:coreProperties>
</file>